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979-F261-496B-8E18-E9118D1B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F2F-68E7-4DBC-AAFD-B7BBB32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1E9A-B507-468D-A820-B03559D6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238-FA87-4B77-8639-3E2655A7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45C2-174B-4074-AEBA-56BF961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200A-1A6D-49DE-A28F-B41A78A6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B1F9-2228-416E-ACEE-91C7A857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E155-0691-4693-B130-B305E6A3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F3F3-ED81-4391-878E-F7ABB364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38F1-B62A-44F3-9571-DA7C9A0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219-E51A-47B5-9498-A272E71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D74-385D-4E6A-BBC1-09FBD0B8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323B-7E56-444C-8B1A-7BEE619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D720-DFBD-4D25-AE84-B806527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4A18-5A73-4439-881F-D497C27C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1AAE-0F93-450F-8729-C6D28757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803-31E4-444B-A000-F2B93E4F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F54-55F4-443A-954D-3B8B45CE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4EA-D68D-41BB-B40B-E88C331A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D8D-82D7-4E85-9199-444B65DE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83A-F38C-402C-8123-6CC463E0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176-BDEB-4DA9-952B-12DFBD6C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2AC-3D30-4546-BD33-B45DB81D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023-E395-4E6B-8664-E69EB2D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8F4D-0436-45DE-8111-E9D47A65C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73BB-E4AD-4803-AC0A-42E83075F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 Black"/>
                <a:ea typeface="华文黑体"/>
              </a:rPr>
              <a:t>Nick’s awesome power point</a:t>
            </a: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Using the possessive apostroph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54100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486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lure of nick=nick’s lure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2590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114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 if there isn'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42670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ck’s 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4100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The chalk of jess=jess’ chalk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590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2590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1240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114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s if there isn'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42670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4267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ss’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86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Contractions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base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2286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124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out letters you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missing letters with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4876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’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467"/>
                </a:solidFill>
                <a:latin typeface="Arial"/>
              </a:rPr>
              <a:t>We will play footy=we’ll play footy</a:t>
            </a:r>
            <a:endParaRPr b="0" lang="en-US" sz="4400" spc="-1" strike="noStrike">
              <a:solidFill>
                <a:srgbClr val="ffd46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base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22860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653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124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out letters you don’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48120" y="3247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44197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missing letters with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8769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4800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’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4b158"/>
                </a:solidFill>
                <a:uFillTx/>
                <a:latin typeface="Arial"/>
                <a:hlinkClick r:id="rId2" action="ppaction://hlinksldjump"/>
              </a:rPr>
              <a:t>Next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2:22Z</dcterms:created>
  <dc:creator>502</dc:creator>
  <dc:description/>
  <dc:language>en-US</dc:language>
  <cp:lastModifiedBy>502</cp:lastModifiedBy>
  <dcterms:modified xsi:type="dcterms:W3CDTF">2009-08-12T04:11:42Z</dcterms:modified>
  <cp:revision>3</cp:revision>
  <dc:subject/>
  <dc:title>Nick’s awesome power point </dc:title>
</cp:coreProperties>
</file>